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5BA-222B-4B65-B1E9-29892206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823-9A38-4FF3-9A31-E00C4967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E4A-2B4F-49F5-893F-4A6A07D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EBD-BC7E-403E-8E16-3F235A72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1F0-0F7C-4183-86F2-A0787009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1CA9-B61D-42AB-BEDB-4CA0E32E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A0C4-69D3-4B39-8CF6-4983F74F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470F-EAC2-4405-9368-09A9DCB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66F1-4919-423E-9AF3-A4B99D9A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251A-D803-4ED1-8FBC-75ADB6AE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AE27-8770-4E50-B58C-B802A7A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E18-4AD9-462E-888E-32FE12E6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B3A3-EC29-4032-BE13-EAD8287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0982-4784-44FF-8217-6B06B75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46EF-62DF-43E8-9F4B-F697FDD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DD5A-2CE4-44E7-92BC-A3342E12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1BC6-A9BB-4806-88F9-6D5B36D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536-8584-4604-BF0B-B68B9C39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CFC-6D95-4ED3-9DA0-140E1B4F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C0C-88D6-409C-A0DB-51F507AA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36C-0F17-4C13-90DE-1ED64819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114-A042-4307-AF6E-4DBE6A2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C91-CB19-4227-8729-1127EA3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C29-9B9B-4D31-85A6-BB0FDD5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D58-CB23-43EA-81EE-35457B6A4A4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542-6BE0-4D3F-96D9-25BA41004D9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Into the Wil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n Krakauer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ane Walk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asons why to read this boo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od detail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see what is going on in your min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feel the same feelings that the characters ha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ictures for read-alou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586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6019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14600" y="430200"/>
            <a:ext cx="66294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03:33Z</dcterms:created>
  <dc:creator>cysd</dc:creator>
  <dc:description/>
  <dc:language>en-US</dc:language>
  <cp:lastModifiedBy>cysd</cp:lastModifiedBy>
  <dcterms:modified xsi:type="dcterms:W3CDTF">2008-11-21T15:01:25Z</dcterms:modified>
  <cp:revision>4</cp:revision>
  <dc:subject/>
  <dc:title>Into the Wild By: Jon Krakauer</dc:title>
</cp:coreProperties>
</file>